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D14-AE8F-4D83-BBB4-7411CFEB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22F-32FD-46F0-A2F3-FC6D236E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6D8C0-5A0A-4125-A2DB-C713041E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3107C-6901-4BD5-9E97-BB80A076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C74B19-061F-461A-806F-44DA8058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9D05D8-242C-4951-8D1C-03BF186B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8B4C8-5ECF-4382-9717-6491E4B9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425E2-AF1C-4804-AFE1-F2CA7FBD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BFC35-0823-4660-913A-F1BA3D29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0AA63-B140-46DF-AB04-0810AF6E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59689-8CF4-440D-B615-9B2FF90C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041-6AE6-4F0C-9E33-418885EC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9C4-719B-4541-A27F-BDE92237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773-0E9C-4D24-94F8-C2402644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4F0-4A74-44F2-884C-14114704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D08D51-F4F3-4AD0-AFDE-1DC48082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757C3C-5E46-4183-BD39-AECDF84C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815247-7B25-42DE-A1E9-421FD9ED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00F-A85B-4407-B6E7-0038A10B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B569E2-EF59-461A-9206-3A86C787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EA6052-C3B5-43E8-A3AD-F594F662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B6112-FEED-4884-BBEA-F82C84DC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ABFDA0-CF09-4A6F-9111-0274736E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2031D1-7545-4660-B210-661FEDF7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D0A17C-F87C-40E8-AC02-E2827EF7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005F4E-7DDA-4D9B-A515-BB22705F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E4685D-ADA7-4B61-8FF2-9D50A48D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578979-A498-405D-9819-67D29079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7A9993-75CD-4E5E-9E3F-D94CD8D6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335-108D-4FB5-A0B9-D502348B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0EBFFB-6A52-45FA-A77A-ABA91AA1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582FB7-DF85-4833-91BF-96C837F3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CF1304-B470-47A1-94DA-15AE714C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531028-4EEC-4F68-9ABA-F979E1E9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B54769-B0F9-458B-BF4C-FBAEF5E3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6FAA98-90D8-4ECA-8D69-5C47C878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9A6D6C-464E-4A15-B134-9AE988B6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AB7A76-CAD5-491C-8DE8-2D7000B7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F0D711-2717-4AB2-A2FC-456981CF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67F9FF-D104-4F9C-A6C4-C23A5820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3553-BF2B-4B97-9D22-E4D086BB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8AAA62-5F93-4E4C-BAA0-A1C8083B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C97F41-F7B3-4CA2-B428-381F4161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D58C6D-3F51-4446-AF2D-0F4A7B14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7E8E94-FECA-40D4-8431-2D53DC17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34C714-61E0-4DF8-9CB2-A3656DD8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EA3324-960E-43CE-B624-FF6839E3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3D5490-4C42-44A8-8EB3-2BB8FC28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C636E2-41F4-4EF7-B59F-176C8328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B5F6F0-C3CC-4649-AF8F-CC5F69DD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3698F5-9670-4051-A3C0-6CE16A1D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93A7-C0A8-4862-BF8D-B5B915EE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C1DAC9-E33D-4515-A4B0-4D7529A6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6ECC36-ACE7-4BE9-B506-D167E51F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E6B116-E9F9-4898-BF94-3BDE2CE8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5E7744-CFEC-4C60-B2FA-AE385FA1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7CB02B-46AE-49C7-8737-7D83B4AC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2C006C-8C6C-4A28-B45E-4DA275B4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F3315D-4CF7-459A-AFBD-677AFB6F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7CEBCA-ADA1-4D92-8444-BA67B0E6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9DFFE4-C402-48BD-89F8-4D2C5647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20DF0C-30A8-49ED-B105-D605BF22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BF8-38D0-4116-BCD4-5B938C07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26601F-DFEA-463C-8AD0-3B3C718E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14B628-7087-44AB-8C1B-A2638234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E97DA9-4D18-41F4-AE79-48C1A416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CFD786-8ED8-4A85-83FF-7A5A03D6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B91607-08F6-40A2-8139-40ECEA71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D4E917-B720-414F-BF0D-E19CE54A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0FB31B-67EC-4F7E-B8E1-C673144E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94D281-A1D3-4B3F-8089-9C4760EF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9F749B-48F3-4EF4-8DC6-8D8F5013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726F65-6412-403D-9E3C-DF1E66C1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2352-D1FD-4257-90B1-532F0949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126E90-5BF9-4FBB-B22F-97C44B11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516A0F-0441-4D48-B79C-84BA9175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00BCA8-54A4-4D46-A22C-FB0E9D91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A6B056-A719-4996-A647-6684DF79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9BD2FE-DDF1-4F4D-9070-525A8AFF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8639E7-FEE1-406A-836E-F189DCA5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A11D3E-9756-4CB2-9C40-E715A280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90E67-4311-42F9-9607-B2A7A189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89378-B5C5-467D-A888-4D58D10B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0F2F71-3CDA-4F9A-A38B-C2089E88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FA2D-2B07-4630-8C4C-D82670035F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1494-5C85-457C-B235-1DE05C34A3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AC19-3275-4D4F-A657-9F84AFE7DF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F0E9-3BFD-4502-9FB8-89FB3BEC9B17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176E-3814-4F17-AB58-0FEB510794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DC99-CBCF-4096-9494-567426204CB9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4B7D-330B-491A-8EC8-20DD257EBB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560" y="3776400"/>
            <a:ext cx="7196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194431"/>
                </a:solidFill>
                <a:latin typeface="Book Antiqua"/>
              </a:rPr>
              <a:t>Le pronom « en »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93560" y="5257440"/>
            <a:ext cx="71964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194431"/>
                </a:solidFill>
                <a:latin typeface="Book Antiqua"/>
              </a:rPr>
              <a:t>Révision: p60-61 dans le cahie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504720" y="1828800"/>
            <a:ext cx="77662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Vous ne mettez pas de la mayonnaise sur vos sandwich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3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314280" y="1814400"/>
            <a:ext cx="85154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lle veut mettre du fromage sur son hamburger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3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299880" y="1882800"/>
            <a:ext cx="88441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Martin et Daniel ne veulent pas mettre de l’ananas sur leurs coupes glacée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3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BIG RULE: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Always put “EN” before th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Book Antiqua"/>
              </a:rPr>
              <a:t>LAST VERB</a:t>
            </a: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 in the sentence!!!!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ircl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0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Verbes for Duotang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5000" y="1687320"/>
            <a:ext cx="36576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oi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drink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65000" y="2649240"/>
            <a:ext cx="36576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u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/Elle/On/Qui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uvo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uvez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s/Elle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v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19600" y="1687320"/>
            <a:ext cx="36576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tt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p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719600" y="2649240"/>
            <a:ext cx="36576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u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/Elle/On/Qui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to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tez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s/Elle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t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194431"/>
                </a:solidFill>
                <a:latin typeface="Book Antiqua"/>
              </a:rPr>
              <a:t>Quel est le sens en anglais de « en » 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Book Antiqua"/>
              </a:rPr>
              <a:t>« en » veut dire « ___________ » en anglai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Qu’est-ce que je fais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Les mêmes instructions que quand on a utilisé </a:t>
            </a:r>
            <a:r>
              <a:rPr b="1" lang="fr-CA" sz="2800" spc="-1" strike="noStrike" u="sng">
                <a:solidFill>
                  <a:srgbClr val="ffffff"/>
                </a:solidFill>
                <a:uFillTx/>
                <a:latin typeface="Book Antiqua"/>
              </a:rPr>
              <a:t>le pronom « y »</a:t>
            </a: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Instead of getting rid of </a:t>
            </a:r>
            <a:r>
              <a:rPr b="1" lang="fr-CA" sz="2800" spc="-1" strike="noStrike" u="sng">
                <a:solidFill>
                  <a:srgbClr val="ffffff"/>
                </a:solidFill>
                <a:uFillTx/>
                <a:latin typeface="Book Antiqua"/>
              </a:rPr>
              <a:t>À + PLACE</a:t>
            </a: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 in the sentence, we’ll be looking to get rid of the ______________________________________ in our sentence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 Verbe - Posi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veut des tomates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Replacing : 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Where does « en » go in our sentenc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goes before the _____________ in the sentenc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Verb: 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Get rid of your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1" lang="fr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and put « en » in front of your </a:t>
            </a:r>
            <a:r>
              <a:rPr b="0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last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 verb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_________________________________________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 Verbe - Néga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ne veut pas des tomates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Replacing: 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Where does « en » go in our sentenc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goes before the _____________ in the sentenc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Verb: 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Get rid of your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 and put « en » in front of your verb. DON’T FORGET: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__________________________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__________________________________________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2 Verbes - Posi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veut mettre de la laitue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Replacing: 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Where does « en » go in our sentenc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goes ____________________________ in the sentenc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Verbs: 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Get rid of your _______________ and put « en » ______________________________________________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___________________________________________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2 Verbes - Néga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1693440"/>
            <a:ext cx="91440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ne veut pas mettre des tomates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Replacing: __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Where does « en » go in our sentenc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goes _________________________________ in the sentenc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Verbs: 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Get rid of your ___________________________and put « en » __________________________________________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_________________________________________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pull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10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How do I do this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90080" y="2019240"/>
            <a:ext cx="8953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ross out the DE + WORD in your sentenc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place it with “en”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ut “en”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befor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1 verb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betwee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2 verb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EMEMBE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There could be ONE verb or TWO verbs!!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f there are TWO verbs, ______________________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Char char="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randomBar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4" name="TextBox 14"/>
          <p:cNvSpPr/>
          <p:nvPr/>
        </p:nvSpPr>
        <p:spPr>
          <a:xfrm>
            <a:off x="423720" y="1870200"/>
            <a:ext cx="82965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Tu mets du ketchup sur tes frite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3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split dir="out" orient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5:50:51Z</dcterms:created>
  <dc:creator>Sarah</dc:creator>
  <dc:description/>
  <dc:language>en-US</dc:language>
  <cp:lastModifiedBy>Biega, Sarah</cp:lastModifiedBy>
  <cp:lastPrinted>2014-12-01T16:06:00Z</cp:lastPrinted>
  <dcterms:modified xsi:type="dcterms:W3CDTF">2014-12-01T16:06:04Z</dcterms:modified>
  <cp:revision>31</cp:revision>
  <dc:subject/>
  <dc:title>Le pronom « en »</dc:title>
</cp:coreProperties>
</file>